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283-64B7-4334-A8F5-9C3535F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F10-39D9-4292-8556-9C90FD5B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56B-7221-453A-AB33-FC851C83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876-5B3C-4A23-8158-A875D97B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33F-6354-4B74-B17F-7BD68891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9F3-3D9D-4F5A-A681-CFA40C6E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935-7777-46FC-BDFA-0B8DDAD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0DD-9E88-4FCC-8C4A-6C9F7FD3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3EA-B2FD-4478-9EE5-334C00BA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944-621F-42A2-BADD-140580C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9B7-A9AE-4341-B220-4CA5E3B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3CA-F4CA-4C09-AFCE-7DAEA75E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1649-892D-4CC9-AEEB-A731F88DBC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Effe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3680" y="5181480"/>
            <a:ext cx="74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garette smoking became increasingly popular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merica after World War I, when cigarettes w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anded out to soldiers as a way to boost mora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8840" y="506880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5181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066680"/>
            <a:ext cx="51818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23924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392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47Z</dcterms:modified>
  <cp:revision>203</cp:revision>
  <dc:subject/>
  <dc:title>Slide 1</dc:title>
</cp:coreProperties>
</file>